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32E-41CE-4DEF-9231-ABB2BF9E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2AE-038B-43BD-BDA1-ABC44C39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311-824B-4611-98E1-B63D1F50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F22-4FD7-4F2E-BF2E-E4F5769B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863-209F-4F80-BD82-82EF061D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B83-6C0F-482F-AD6B-A430B25D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170-3413-4097-949E-E343DE45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1CC-AF14-4955-B86F-B83C6981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BA8-B253-490C-AD29-155156F9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07B-E32F-48B7-9D98-CEEF02F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B04-8050-41F9-BF93-CB7A97A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189-53C6-4060-916E-8BDA37E8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D38B-F700-4432-8D88-8B4CB3956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hildDischarge9.jpg"/>
          <p:cNvPicPr/>
          <p:nvPr/>
        </p:nvPicPr>
        <p:blipFill>
          <a:blip r:embed="rId2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Discharge10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Discharge11.jpg"/>
          <p:cNvPicPr/>
          <p:nvPr/>
        </p:nvPicPr>
        <p:blipFill>
          <a:blip r:embed="rId1"/>
          <a:stretch/>
        </p:blipFill>
        <p:spPr>
          <a:xfrm>
            <a:off x="776160" y="847800"/>
            <a:ext cx="7591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Discharge12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ild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Discharge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Discharge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Discharge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Discharge4.jpg"/>
          <p:cNvPicPr/>
          <p:nvPr/>
        </p:nvPicPr>
        <p:blipFill>
          <a:blip r:embed="rId1"/>
          <a:stretch/>
        </p:blipFill>
        <p:spPr>
          <a:xfrm>
            <a:off x="776160" y="828720"/>
            <a:ext cx="75916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Discharge5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Discharge6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Discharge7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Discharge8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7:33Z</dcterms:created>
  <dc:creator>zcui</dc:creator>
  <dc:description/>
  <dc:language>en-US</dc:language>
  <cp:lastModifiedBy>rbalne</cp:lastModifiedBy>
  <dcterms:modified xsi:type="dcterms:W3CDTF">2009-08-12T13:57:22Z</dcterms:modified>
  <cp:revision>2</cp:revision>
  <dc:subject/>
  <dc:title>TRAC</dc:title>
</cp:coreProperties>
</file>